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41C-4079-498D-8858-E3920FC7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A49-1C1D-4074-917C-CD94104E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06C8-5426-4FD7-BE6C-9E5AA945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A146-2ED8-4E75-BCE1-CD8D1934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4F99-610D-475A-B0F8-8CFBB803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C85A-BC0D-4C0E-B4A8-4006FBF9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FFE5-81B9-44B2-9E86-2C0ABD84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A85C-E6BF-467E-AFC7-1021929D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F088-041A-4BFB-8B74-532A1609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F20A-45E3-4311-A0CE-D58FB8B9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56CC-FC80-4B47-BA07-DAA02E8F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BF1-6E3F-4B42-8DF0-B41C3457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6472-D876-4128-9F2B-29D8F6B9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58FF-2F71-486E-9E46-DE1FA248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FDBF-CDF7-43E6-9742-338E558C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A119-05F0-4618-B7F3-02CAD6FD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C2CB-474D-4F83-881F-B699CA99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43153-2DC3-4C0A-8FCB-6B961F4A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05B4E-C12F-432B-8D1D-51AC4CAC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D3063-B789-48FF-A1B5-A94D3AFC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E34C0-3958-43DE-A7AF-B1B8E945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EFF70-D7EB-434C-A113-667FCF5C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F19-CE74-4D7B-BE86-394AD10A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AB657-B77A-44C0-BDA1-D36016BE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FBDDE-5304-498D-AFE8-C2A2E03B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3FF08-5EB9-42B5-B927-FD55E8AF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9A984-F85C-47EB-9D8F-EBF3F925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E703B-B5B4-422A-AAA7-E2D97111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429ED-CE50-43BC-934E-EE3C6DCA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F68EE-163D-4612-AC6D-E46584A1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0B604-5195-42A9-9460-5244C6EB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6DC27-ACE5-4D9B-8E92-D48E8595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5D730-D0BC-4138-84AE-9265C681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D4F2-564C-41FC-9B9B-7C944BD2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F109A-607F-428A-BB34-99C2264B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4F9BB-478B-414F-AF26-EEDBBAA8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3931C-BEF1-40A0-89AC-A70F8B8B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A1A13-D535-4F0A-A63B-E19C1644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61E36-D8C6-441C-B0C0-8B7281A2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48AAC-66B8-4854-9A8E-2B2F6DC8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801A2-5F3C-4473-B171-E1EDFD25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D7BA9-948C-4889-9E21-3C3FB5B6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FF6F1-CCA0-4FC5-B483-507E3BFF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0ABA0-5AFA-4DDB-BBB2-170D8673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334-DA2A-45A8-B9CF-FF387542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E1994-4AB2-4BFB-B8FE-5B902123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2ED8E-6037-4E09-B603-5B13B46D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1351F-9BC4-42A3-A6C4-ECC45A65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7B686-21D7-465E-99A0-AB14A4C8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98E43-6C24-4AFD-957E-B513B6B8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4D430-22AC-4BBB-AABB-8D1A22BD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D222F-2C46-429B-9020-B851F551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3D0FB-692D-48B5-BA2B-2318FDBB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3E8F1-F85F-4541-AAD5-42D17FD8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D3E3F-983A-4110-AC07-522580B2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E047-38F5-414A-9614-E1DCE383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504A0-7BBA-49D1-964D-F28F5418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2CFA0-621F-4E7F-A454-A231B7A3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5BA81-9592-491F-A1B1-A93626A3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0ABCC-E52C-4DFB-98FF-63C2BAE4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2A635-CB71-44AF-83E6-D9A1BEAD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E9DC7-476C-4F07-A7CD-5A925F26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F4BB3-14DE-4F10-B9B3-CBBB413A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1AEBE-92EA-4069-8358-8A06D2CC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CF24E-9029-4812-8D1C-943E6968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D8C02-6D9E-4621-BE8B-8A515C71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CD37-393D-44A9-9522-A3961AB0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EC33F-747A-4DCD-B92D-861E43D1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AC913-C665-4A29-AB5B-28A545D8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731A3-6567-43B7-B7D1-B466F3BA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EC55A-01D2-4296-9135-BF6C6457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F0A24-C826-4F34-BEED-51995EA3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8CA3A-EE58-4FFB-918B-A6E5575C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6EDFD-F00B-41D4-8D6C-C7B93946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809DF-14C1-44B2-8ED4-B56886B0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3F8E8-90AB-407F-B83B-3FE24BD1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909E7-1B31-4766-A3B2-04DF7A4F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677-0C1E-4977-A526-9EAF416C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9FD0C-4F9F-48AF-A422-1CE31FEF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0B440-7B8C-4D46-B41B-D2E395A8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C7BD6-0D22-45A9-BF5B-02F091E5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565CA-F887-4588-8C25-675B25D3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9C818-102A-46ED-BB09-1C897B58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9CB3-6764-4946-9731-472BEEFA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4351C-ED2E-48C5-ABC5-FB8FD3EBAB6E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68386-5929-4CBE-9AC6-88AC9A4095B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CED61-ED3E-4D9E-A9E2-6E0BF9EE9ED6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0CEB7-810F-4309-BD11-7F21A91663BC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F2506-1771-4E7D-8B46-92D843C697B0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801D0-9F2F-4AA5-8B6E-E0162992728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30C82-DCA0-4E6E-9A3C-D15AA9799B11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C27DD-C5FE-4755-9B7A-57519E6DFAF0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A601E-5FFC-47F2-B059-A1E5CA45F6E2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343BD-ED64-4E7E-9614-A611A5CE27B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6C047E-7BE2-40F6-B94D-D8591FFB6B68}" type="datetime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45EC8-74F0-4C00-BA4B-B6D156156C07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5CF85-455A-4A52-A6C9-6BB2B1AC77FC}" type="datetime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E2879-3600-45E9-A70A-FA2298DEFEBB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42880" y="658800"/>
            <a:ext cx="8472600" cy="188280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42880" y="2170080"/>
            <a:ext cx="8266320" cy="1835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ncargo previo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l viaj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Llegada al lugar y enfrentamiento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yuda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uida accidentada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etorno victorioso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l rey Pelias le encarga a Jasón encontrar y conseguir el vellocino de oro. El encargo previo debia hacerse a aquel hombre qu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pareciera solamente c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una sandalia, éste sería e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ombre que deberí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travesar estas prueba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eligrosas para poder traer e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vellocino al rey y asÍ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cupar su tron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Picture 4" descr="07000.jpg"/>
          <p:cNvPicPr/>
          <p:nvPr/>
        </p:nvPicPr>
        <p:blipFill>
          <a:blip r:embed="rId2"/>
          <a:stretch/>
        </p:blipFill>
        <p:spPr>
          <a:xfrm>
            <a:off x="6556320" y="3483000"/>
            <a:ext cx="213048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09" name="Content Placeholder 2" descr=""/>
          <p:cNvPicPr/>
          <p:nvPr/>
        </p:nvPicPr>
        <p:blipFill>
          <a:blip r:embed="rId2"/>
          <a:stretch/>
        </p:blipFill>
        <p:spPr>
          <a:xfrm>
            <a:off x="457200" y="1736640"/>
            <a:ext cx="8229600" cy="4719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g1_u7284_jasonvoyage.gif"/>
          <p:cNvPicPr/>
          <p:nvPr/>
        </p:nvPicPr>
        <p:blipFill>
          <a:blip r:embed="rId3"/>
          <a:stretch/>
        </p:blipFill>
        <p:spPr>
          <a:xfrm>
            <a:off x="228600" y="5013360"/>
            <a:ext cx="2114640" cy="14414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Image24.jpg"/>
          <p:cNvPicPr/>
          <p:nvPr/>
        </p:nvPicPr>
        <p:blipFill>
          <a:blip r:embed="rId4"/>
          <a:stretch/>
        </p:blipFill>
        <p:spPr>
          <a:xfrm>
            <a:off x="228600" y="3206880"/>
            <a:ext cx="2154240" cy="1517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29600" cy="18036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Jasón y los argonautas tras su llegada a la Cólquide quieren conseguir el vellocino de oro, pero el rey de la isla impone una serie de pruebas que deberá superar Jasón, como, por ejemplo, la prueba de los toros o los gigantes armado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Jasón tuvo que superarlas para poder obtener el vellocino y así conseguir el trono. 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4" name="Picture 3" descr="mitojason1.jpg"/>
          <p:cNvPicPr/>
          <p:nvPr/>
        </p:nvPicPr>
        <p:blipFill>
          <a:blip r:embed="rId2"/>
          <a:stretch/>
        </p:blipFill>
        <p:spPr>
          <a:xfrm>
            <a:off x="5867280" y="4302000"/>
            <a:ext cx="2244960" cy="2152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a ayuda de Medea, hija del rey, fue muy importante, porque gracias a Medea, que tiene poderes mágicos, Jasón puede superar mucha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uebas. Además tiene a su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avor que ésta estaba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namorada de Jasón.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l rey nunca vio bien que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edea ayudara a Jasón a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obtener el vellocino de oro,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or eso le hace volver ante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 Medea a la isl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7" name="Picture 3" descr="jasonmedea.jpg"/>
          <p:cNvPicPr/>
          <p:nvPr/>
        </p:nvPicPr>
        <p:blipFill>
          <a:blip r:embed="rId2"/>
          <a:stretch/>
        </p:blipFill>
        <p:spPr>
          <a:xfrm>
            <a:off x="6781680" y="3276720"/>
            <a:ext cx="1905120" cy="3178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Jasón y Medea cuando ya habían conseguido el vellocino de oro, huyen hacia la isla perseguidos por Eetes aunque gracias a la astucia de los dos, logran escapar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etes no se lo puso fácil, ya que cuando volvían con el vellocino por el mar, cogió varios caminos que él conocía para poder alcanzarlos. A pesar de sus intentos, logran escapar, aunque el rey ordena a Medea volver inmediatamente a la isla, ya que había desobedecido sus órdene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Jasón y Medea habían cumplido su objetivo final, que era llegar a Yolcos con el vellocino de oro y entregárselo al rey Pelias. Inmediatamente, el rey Pelias, le ofreció el trono a Jasón, pero lo más importante es que habían cumplido la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         misión: que era conseguir el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         vellocino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2" name="Picture 3" descr="argonautas Jason De Erasmo Quellinus.jpg"/>
          <p:cNvPicPr/>
          <p:nvPr/>
        </p:nvPicPr>
        <p:blipFill>
          <a:blip r:embed="rId2"/>
          <a:stretch/>
        </p:blipFill>
        <p:spPr>
          <a:xfrm>
            <a:off x="1243080" y="4743360"/>
            <a:ext cx="1957320" cy="1865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5:39:36Z</dcterms:created>
  <dc:creator>Julio Muñoz Gaya</dc:creator>
  <dc:description/>
  <dc:language>en-US</dc:language>
  <cp:lastModifiedBy>Julio Muñoz Gaya</cp:lastModifiedBy>
  <dcterms:modified xsi:type="dcterms:W3CDTF">2010-01-06T17:46:36Z</dcterms:modified>
  <cp:revision>26</cp:revision>
  <dc:subject/>
  <dc:title>Slide 1</dc:title>
</cp:coreProperties>
</file>